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CB6D-C54C-47AD-BE93-56C80B647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2B4B-680B-4A39-A960-CA8A6C6FC8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4B81-8385-44CF-8B54-E09594B55A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A7F8-C776-4037-9A61-B4E792E10B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44C8-1DDD-4E60-AFF9-CBD9CECA05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AAEE-D130-442E-9EE3-7502181CB7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A1BB-5D65-45ED-AA9D-BCD20C8E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9D66-9BDC-4DC9-90AC-C3323E87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DC76-CE30-44CD-9C73-3DB4B0163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CBCA-7E37-4BD5-A9A0-A703D9F8A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2FB6-1686-4826-BAA3-B2886E4E7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C376-7843-479A-80DD-890FDEF6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58B7-7A68-413E-8F07-92AE8059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B6E3-22B8-4487-9028-379DB80B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B6B0-79FD-42AB-99DB-26363CF9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6FF2-26AE-487A-8A41-D0BF8923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4BEF-637C-466A-88B9-38D85E63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E249-EDAC-4E43-A8D9-CFB88EF4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18B0-FA95-4C1F-941E-303F864E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3DF9-5B2A-4BA6-957C-E737F8D9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086C-514D-4C48-A0BB-081B3339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89DA-FEC3-4256-8F5E-498D7D6B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5063-B70B-4211-A1FE-24531BA11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A32C-F23D-4497-8EC7-7017790A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5594-7920-4B56-8E50-81380CC0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333B-3604-4DCE-97CB-36303B13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E6CB-0607-4CB8-B8DF-46462250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708D-DA2A-461A-BDB3-F42B5679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E0AD-56CE-4010-A378-4F90AF43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AAFB-E9FB-4121-A1AD-B3F87F3C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C5CF-3CC1-46A1-8130-96A2724E8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A1BA-7415-4D0F-A5BC-437E680A44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AVING MONEY ONQ #1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ING ATM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consult your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Ready at the Sound of the B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320" y="110016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1. When you save money, is the interest usually LOW or HIGH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048120" y="3208320"/>
            <a:ext cx="29718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320" y="177840"/>
            <a:ext cx="9144000" cy="39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2. What is arguably the most important financial rule that we will talk about in personal finance?</a:t>
            </a:r>
            <a:br>
              <a:rPr sz="4400"/>
            </a:br>
            <a:br>
              <a:rPr sz="32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2451240" cy="36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60" y="423360"/>
            <a:ext cx="8763120" cy="21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3. You save money for ___ ____ goals and invest money for ___ ____ goal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685800" y="2922480"/>
            <a:ext cx="3133800" cy="3133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876920" y="3270240"/>
            <a:ext cx="32558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9824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4. Money that is saved for ___________ should be easily and readily accessible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1"/>
          <a:stretch/>
        </p:blipFill>
        <p:spPr>
          <a:xfrm>
            <a:off x="3352680" y="3352680"/>
            <a:ext cx="2181240" cy="20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609840"/>
            <a:ext cx="9144000" cy="37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5. What is the most crucial part in deciding whether money should be saved or invested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2895480" y="3581280"/>
            <a:ext cx="3218040" cy="2133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2-02-23T12:35:43Z</dcterms:modified>
  <cp:revision>151</cp:revision>
  <dc:subject/>
  <dc:title>D/O: TO EXPLAIN AND IDENTIFY PROBLEMS OF ECONOMICS</dc:title>
</cp:coreProperties>
</file>